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EA28-7A8D-4F74-850A-C4462B13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335-2564-4E10-93F0-DC2C024C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E3A-4611-4F3B-B578-D4C204BF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BEF-1AED-4200-9C45-68CCED49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74A-3092-4BE3-A126-EE4BEF88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678-5575-4573-B543-007890D4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60B1-91B4-456C-B59C-5A854DC4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AD4-A043-4E56-8772-2795D18F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1470-15E7-4B66-AAB9-90C950E3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D61-0A2A-45B4-B056-52A297FA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69DF-C69E-4D0D-BA30-0B42AFC2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5A8-F4C2-4D8F-BD16-4DB5D397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51E497F5-C41E-4B06-A954-652FCAE43B6C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2nd Board Meet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NA1- Management 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7 April 17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, Coordinating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oject Statu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6 March – Project Star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 May – Month 15 (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9 March – Project Completion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Quar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1: March, April, 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2: June, July, Aug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3: September, October, Nov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4: December, January, Febru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BE2B-8E3F-4A3A-B64D-8BA526DBD12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General Items w/r/t Account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keep track of items lo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“reasonable estimates” for quarterly s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spending to 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financial report (Form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 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CDF-6920-4C3B-8C20-92B0491E17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onthly Report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s submitted on a monthly basis.  Short updates to provide Science Officer with information on the month to month status of the pro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the medium through which we signal unexpected accomplishments or delay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ing warning information in the months leading up to a problem is crucial to show that we knew the problem exis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ports are available on the wi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648320" y="1143000"/>
          <a:ext cx="4038480" cy="39528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3320-ACCA-47B4-B930-DE77F458E1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arterly Report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supposed to provide quarterly financial updates to the EC.  The information can be estimated.  The purpose is to show that the trends are cor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first year, we provided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for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urs/manpower expended 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 sp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ment, hardwar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(lease, one time payment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F1E-DE02-421D-9D14-828D3973BC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nnual Repor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separate agenda item to discuss the Annu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next year, things to impro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outline of document, structured more around work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mmunication with the financial contacts w/r/t the Form C and au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34C-05C4-44E6-89FA-0BB5BF9C6F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pecific Accounting Item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 Au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them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ey do not have to be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 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%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xperienced institutions are encouraged to obtain a first year audit certific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sum recipients will be expected to submit annual audit certif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T can not be charged against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you need to go through each individual receipt and remove the VAT am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852-7D2A-4A75-9D91-436C86EDB6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eliverable Track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manager will start tracking and publishing deliverable compliance as part of the monthly reports to the E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 for each deliverable will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able 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 Particip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ed Delivery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ual Delivery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Status” will be displayed numerically on a zero to four sc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work initiated &lt; - &gt; Deliverable submitted to PM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F8C-F39B-4253-AD83-AE4293FED12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86200" y="571500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22575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523880" y="229716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66880" y="238932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3809880" y="2362320"/>
            <a:ext cx="836640" cy="404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4876920" y="2421000"/>
            <a:ext cx="888840" cy="287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6019920" y="241308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7802640" y="2133720"/>
            <a:ext cx="731880" cy="861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685800" y="3262320"/>
            <a:ext cx="849240" cy="587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0"/>
          <a:stretch/>
        </p:blipFill>
        <p:spPr>
          <a:xfrm>
            <a:off x="1752480" y="3346560"/>
            <a:ext cx="2246400" cy="590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1"/>
          <a:stretch/>
        </p:blipFill>
        <p:spPr>
          <a:xfrm>
            <a:off x="4338720" y="309888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kk-ctv-eng" descr=""/>
          <p:cNvPicPr/>
          <p:nvPr/>
        </p:nvPicPr>
        <p:blipFill>
          <a:blip r:embed="rId12"/>
          <a:stretch/>
        </p:blipFill>
        <p:spPr>
          <a:xfrm>
            <a:off x="5257800" y="327168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7767720" y="32479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587520" y="431784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1882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3025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4241880" y="438948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5235480" y="454644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9"/>
          <a:stretch/>
        </p:blipFill>
        <p:spPr>
          <a:xfrm>
            <a:off x="6835680" y="4611600"/>
            <a:ext cx="1698840" cy="327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0"/>
          <a:stretch/>
        </p:blipFill>
        <p:spPr>
          <a:xfrm>
            <a:off x="4038480" y="1219320"/>
            <a:ext cx="1067040" cy="711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rtner Logo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BF0-2D2A-4A81-B2DA-0445BBDBE64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. Charles Yun</cp:lastModifiedBy>
  <dcterms:modified xsi:type="dcterms:W3CDTF">2007-05-22T10:53:35Z</dcterms:modified>
  <cp:revision>110</cp:revision>
  <dc:subject/>
  <dc:title>Slide 1</dc:title>
</cp:coreProperties>
</file>